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3AE-7CE4-4751-8A01-7E705B7D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B7E-0241-42E0-8A69-15A9568B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CCB-61F6-4AA2-8A83-8F4D0058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62B-7432-4B77-A4D6-99EECF42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B6BA-1C04-4A54-8311-8919D1D1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959-42C5-448D-BCDC-BD8FF2CA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B5F-D8CC-4C8D-8535-1FBDFAD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A71D-DFA7-49E4-941A-7DB4417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A2B2-7C1B-4380-ACBD-D0EBABC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6B56-42F8-44A3-8CD3-7D5349A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B2B-69F6-45E7-91AD-CE436C4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B46-8542-4037-99BA-4CEBD81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C822-411A-4C36-8CCD-BAAEEE6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B376-8CC8-4855-B79E-CF0AA2E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83F-09B7-4CE2-88FD-4DA014E1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0B21-9F2D-4B22-9D27-CE10157B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F23-A634-429E-ADB7-6C2387EC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1FF-09D3-49DE-B023-586BD949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53A-4C10-4A29-AE43-D2B8837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C5E-D56C-416D-9B43-E1392AF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B73-5A98-4F40-8394-0C154A3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B67-27BB-46A8-A4C9-F3A0538E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829-635C-43F7-BBB8-6CFAAAC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318-7A8C-4B94-9121-BD6FD70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B158-68BC-4A6D-869C-E064D3C1C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F1FA-FC20-4B77-8C73-5740B1ED62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"/>
              </a:rPr>
              <a:t>Millin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Conn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Ale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"/>
              </a:rPr>
              <a:t>Da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2530440" cy="2593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3035520" cy="2227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95480" y="304920"/>
            <a:ext cx="3414960" cy="186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21243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What milliners m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Milliners make shirts, hats, aprons, stockings, gloves, hoods, muffs, cloaks, ruffles and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9360" cy="3733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67080" y="3276720"/>
            <a:ext cx="3038760" cy="3314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2120" y="5715000"/>
            <a:ext cx="618840" cy="800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352680" y="586728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7162920" y="5410080"/>
            <a:ext cx="942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Milliner Jo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Milliners need lots of energy for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6520" y="3352680"/>
            <a:ext cx="5333760" cy="289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2514600"/>
            <a:ext cx="1814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Today's advantag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We have better things to sew with and electri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ostumes</a:t>
            </a:r>
            <a:r>
              <a:rPr b="0" lang="en-US" sz="4400" spc="-1" strike="noStrike">
                <a:solidFill>
                  <a:srgbClr val="ffffff"/>
                </a:solidFill>
                <a:latin typeface="Wide Lati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lliners also make costumes for masquer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81480" y="2666880"/>
            <a:ext cx="2349720" cy="3505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7920" y="3505320"/>
            <a:ext cx="24289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Demi ITC"/>
              </a:rPr>
              <a:t>Woman milli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gravers MT"/>
              </a:rPr>
              <a:t>Most of the milliners were w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486400" cy="3957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619200" cy="800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105520" y="5410080"/>
            <a:ext cx="6188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oadway"/>
              </a:rPr>
              <a:t>Ha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Almost everyone wore hats from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milliner sh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2895480" cy="212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3414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N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People are fancier at night because th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usually go places like par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They also go to restaurants at n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9:00:59Z</dcterms:created>
  <dc:creator>Leigh Anne</dc:creator>
  <dc:description/>
  <dc:language>en-US</dc:language>
  <cp:lastModifiedBy>Leigh Anne</cp:lastModifiedBy>
  <dcterms:modified xsi:type="dcterms:W3CDTF">2011-03-11T16:47:50Z</dcterms:modified>
  <cp:revision>27</cp:revision>
  <dc:subject/>
  <dc:title>Milliner</dc:title>
</cp:coreProperties>
</file>